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3CD-5EA9-4AA9-8AF1-B6B13A27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99D-1D2A-4D24-8589-A8C717B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D6E-97B3-4437-9662-B33827DF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84C-408E-45B2-8203-9D4639B3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082-A83B-4D7C-9C93-CECC1EC5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AE3-FD3F-4FC1-9777-7003ED2A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7B4-3486-4370-B6DD-0F217B7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AD4-0700-456A-B2D8-F6B0AB6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60F-90B2-4C54-B417-5B439703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94F-D2C9-4973-821A-8BE5C78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219-5D83-4408-8231-C642A6A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826-3023-4339-BBAA-11D022C5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6F95-633E-4597-8280-BF2FD735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iera Foga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e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s are funny they like b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lso like bacon I am a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e Bears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very cute bear you can find it on clip art in 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likes b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292104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nge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upcake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not eat bacon it is aller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15920" y="2401920"/>
            <a:ext cx="292104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y holiday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ways tries to eat the cupcake bear even though I tell him no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ian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anadian bear he does not know his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ways has bacon as a midnight sn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Bear Is Being L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ar has lots of love from its 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19760" y="160020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1:54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3Z</dcterms:modified>
  <cp:revision>6</cp:revision>
  <dc:subject/>
  <dc:title>Funny Cats</dc:title>
</cp:coreProperties>
</file>